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A75-B6C8-47B6-8D93-77E4C368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A62-B7C8-4907-AE66-2B3D10A2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1D5-D383-4936-95EA-5D3BEFED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E5E-A850-4330-8E02-771F2673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E6F-8C5C-4081-9963-C6709CDA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946-7056-4928-A316-F664846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91D-8FBC-47F5-BD1D-4715C8C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A8C-1B35-49F2-A55E-CE31FDF3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5A0-8A02-4E1E-8EE6-538E559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973-3DE1-47A6-B45B-9130D0E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221-8BE3-4A4F-8760-3477CEA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8FC-FA22-4DFC-9328-081EA86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C18-3B2D-4049-97D7-8681AE97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lephant"/>
              </a:rPr>
              <a:t>Planets in our Solar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019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By: Dominique Pulver, Molly O’Brien, and Jai An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Planet h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a Density over 1.000 not including the planet Sa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more than on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Gravity- Planets can either have a high amount of Gravity or a low amount of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be some kind of spherical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to have some amount of mass- Inner planets mass can be high for example Jupiter is over 300.0000 or low mass for example Mercury is over 0.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planets must of Orbital Inclination except for Earth- Eris has the highest Orbital Inclination which is about 4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lanet has to be a certain distance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planet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 a Dwarf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Dwarf Planet has t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orbit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orbital Inclination has to be above 0.000, not including Ea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a mass above 0.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have at least 1 moon, not including Mercury 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lanet 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What isn’t a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 non-Planet ha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Density above 6.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Orbital Inclination above 4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Gravity above 3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over 65 mo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non-spherical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6:35:06Z</dcterms:created>
  <dc:creator>mchamorro</dc:creator>
  <dc:description/>
  <dc:language>en-US</dc:language>
  <cp:lastModifiedBy>ASD</cp:lastModifiedBy>
  <dcterms:modified xsi:type="dcterms:W3CDTF">2011-02-14T16:47:37Z</dcterms:modified>
  <cp:revision>13</cp:revision>
  <dc:subject/>
  <dc:title>What is a Planet?</dc:title>
</cp:coreProperties>
</file>